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4A4FF-6218-40D6-9B2D-0377209A6C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915F6-ABF5-4515-9D32-A0ACD6546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BF73-0142-483A-90E9-CBA7BF4E11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90F0-A36F-484F-B2A5-DD59618957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91A8-6442-4A5F-B08B-3B34399A9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58EE-77C6-4CD4-B296-1AD067AC8D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332C-A8F1-41A1-9105-55B9E938A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E91F-88DD-44AF-A75C-1BC373B9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AB19-93C4-4C2D-9AD4-2CA325AF8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05B-B4A2-4C04-8743-3D33F38CF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CF6-9F94-47AD-8DAD-2D8829F7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9523-A6D3-4EF8-97ED-741005EF5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0E65-392B-4B08-A9C6-8F43490E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8250E-5519-4BE0-9772-3CDAA3073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BDA57-7587-48A4-B723-FBFFF433F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CA89D-679D-4E64-925B-624F1317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1195-9109-4E16-ADFD-74E8C6B1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C4B50-B8A6-4955-8484-2F8C6F0D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B261-1AB5-4D3F-B5D6-438AB0442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9A637-F6F4-4E93-8534-3A05BE81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BB81-33CC-41AD-AB11-5CE13215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8B1F-6473-4ADF-B9F7-1BD6AB61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9839-063E-4409-9274-D454F1E9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CAB5A-4C92-4425-8C13-91E269E06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1A2D-E8F3-40FF-9A92-F369D5F3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29F9-C7EE-41D9-9BE4-5B39CCB5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1008C-E831-4D5A-90D5-6E69836F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2B79EA-B5E4-4894-BD28-F2AED283E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7EECD-7CDA-4CCD-9739-08465493D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87B67-EB2C-4233-8762-E7B7BB05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7EEBB-D779-44D7-92DE-A5E35020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312A-823A-4ABC-8F28-C5F6FFBB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F0408-135A-4745-8D46-4458F7F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C92EC-1112-470A-9C31-0F97BEF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2B0C6-79B8-4574-BB61-55368715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ABA391-5537-4A71-9566-720F97F4A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1F4CD-450C-48B6-8B85-9F24E3052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93D0D-7CDF-469C-A326-75529901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F2B3D6-2386-482A-90A2-C0440B1F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0880B-57EA-4B9D-B266-7577F121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9804-3EAD-4121-A336-0B907138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6D16F-8FE6-41A2-91FA-DE20E09A6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C2BC-36C7-4B32-AA08-01363CBE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45177-8A7E-4C0C-8C57-1BEB195A1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F8CC1-251E-4273-86FE-99806C81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F7315-2F3B-4792-BF66-F6789B6F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4A018-F54D-4EB6-A693-A8C8BDF4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15398-82EB-4708-88D6-5FA8C75B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ED5C7-0361-470A-9DC0-B80CB60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E8AB0-C9D4-4168-A780-9B631F34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F7AF4-6BFF-4BB6-90B5-048E4AAD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32711-9896-4092-956A-35D738C3A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BE67F-F434-456D-98C3-A3F73C429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24B-D067-4A5A-8EDA-AE1CC69E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D40F92-9BE5-47F0-B6F2-4BF51FAFE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8DB4-C324-4919-9BDC-EFD8F3E6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FA5BBA-69C2-4977-8CA0-20C04898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FF0D4A-2D26-40BB-8910-6455C4633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6B648-9A93-4ACE-82A0-3DBFE4B1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13565-37BD-4D57-9C8C-0A268F02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F1B2F-B547-44F3-AF58-8618D0C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00D2D-AB01-4020-8B69-AB686522B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B038D-2BDD-4EC9-B340-2BE1FE55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693DF-56B8-4D97-B1BC-162C971CA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76BC-1E3B-44C4-948A-36F39CC8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CB723-8157-4E36-951F-9094CFC3E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A37C-9878-4AC4-80C6-BCA832B6E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0368-969D-469D-8F95-4E2F18D3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492B-8521-4DD7-B21D-C7BFEDE5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665-8284-425F-80C9-C602386A286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4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5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6E154-D9D6-4CAC-AF27-DD9D06DFB00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96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00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90F-BE7E-4C81-9801-1B636ABB3FB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45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A3DB-502C-4149-8C32-D9544132A6BD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191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0D8F-2F0A-4C0F-B2B8-37E9AF261608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5" descr="AC_ENG_3Colour"/>
          <p:cNvPicPr/>
          <p:nvPr/>
        </p:nvPicPr>
        <p:blipFill>
          <a:blip r:embed="rId1"/>
          <a:stretch/>
        </p:blipFill>
        <p:spPr>
          <a:xfrm>
            <a:off x="2971800" y="2935440"/>
            <a:ext cx="3048120" cy="1103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4" name="Text Box 14"/>
          <p:cNvSpPr/>
          <p:nvPr/>
        </p:nvSpPr>
        <p:spPr>
          <a:xfrm>
            <a:off x="2362320" y="495288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ASI Training for Employment Support Services     05. 11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22"/>
          <p:cNvSpPr/>
          <p:nvPr/>
        </p:nvSpPr>
        <p:spPr>
          <a:xfrm>
            <a:off x="3124080" y="6095880"/>
            <a:ext cx="33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nded by the Government of Ontari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bf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47" name="Text Box 8"/>
          <p:cNvSpPr/>
          <p:nvPr/>
        </p:nvSpPr>
        <p:spPr>
          <a:xfrm>
            <a:off x="990720" y="9144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ckg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3"/>
          <p:cNvSpPr/>
          <p:nvPr/>
        </p:nvSpPr>
        <p:spPr>
          <a:xfrm>
            <a:off x="1371600" y="1752480"/>
            <a:ext cx="7010280" cy="41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is the first provincially-fund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of its kind outside of the Greater Toronto Are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Access Centre for Regulated Employment provides accurate licen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information and application assistance to newcomers seeking careers 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Ontario’s regulated profess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ject is funded by the Ministry of Citizenship and Immigration and is 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artnership of 3 local not-for-profit organizations: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WIL Employment Connections (managing partn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ondon Cross Cultural Learners Cent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' Association Canadienne-Francaise de l' Ontario (ACFO), London-Sar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8"/>
          <p:cNvSpPr/>
          <p:nvPr/>
        </p:nvSpPr>
        <p:spPr>
          <a:xfrm>
            <a:off x="99072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Regulated Prof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>
            <a:off x="1371600" y="1828800"/>
            <a:ext cx="34290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rchit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Audiologist and Speech-Langu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at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Engineering Technician and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General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ertified Management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artered Accoun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odist and Podia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hiropra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Hygien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al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entu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Dietit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Early Childhood Edu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Fore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d Survey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wyer (including Paraleg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assage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4952880" y="1828800"/>
            <a:ext cx="3886200" cy="46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Laborator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edical Radiation Techn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Midw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Nu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ccupational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Optometr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armac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c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hysio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Engine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rofessional Geoscient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sycholog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spiratory Therap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ocial Worker and Soci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Service Wor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Tea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Veterinar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4" name="Text Box 11"/>
          <p:cNvSpPr/>
          <p:nvPr/>
        </p:nvSpPr>
        <p:spPr>
          <a:xfrm>
            <a:off x="1371600" y="1066680"/>
            <a:ext cx="701028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Client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partners with ITI's in a business relationship with the goal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or employment in a regulated prof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rovide current and credible information and application assistance in a context of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ach individuals education, career history and personal go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c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595959"/>
                </a:solidFill>
                <a:latin typeface="Arial"/>
              </a:rPr>
              <a:t>Access Centre provides an adjunct service for employment counsellors, settlement and library workers in the reg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3122f"/>
                </a:solidFill>
                <a:latin typeface="Arial"/>
              </a:rPr>
              <a:t>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ccess Centre is one of the ‘tools’ in place for companies to effective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onnect with immigrant t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56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l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6"/>
          <p:cNvSpPr/>
          <p:nvPr/>
        </p:nvSpPr>
        <p:spPr>
          <a:xfrm>
            <a:off x="1295280" y="1600200"/>
            <a:ext cx="7010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Internationally trained immigrants understand and navigate the complex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process in On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Help client’s understand international equivalencies including source verification 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make informed  career and licensure related decisions (WES, ICAS,CES et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document procurement  from educational institutions, ministrie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ducation, library archives, previous employ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Facilitate legal  requirements in the document process (notarization, attestation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sure ITI’s submit favourable applications to their regulatory bod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ssist with post application requirements for those interested in achieving fu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licensure in their fiel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666666"/>
                </a:solidFill>
                <a:latin typeface="Arial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4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0" name="Text Box 8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Barriers to Licen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371600" y="2133720"/>
            <a:ext cx="7010280" cy="39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Some of the more common barriers faced by Internationally Trained Immigrants  (ITI’s) in regulated profession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redential recogni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Work experience recog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Recency of prac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anadian experienc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Language and commun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Costs associated with licensure ( Application fees, translations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666666"/>
                </a:solidFill>
                <a:latin typeface="Arial"/>
              </a:rPr>
              <a:t>Post application examination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AC_ENG_3Colour"/>
          <p:cNvPicPr/>
          <p:nvPr/>
        </p:nvPicPr>
        <p:blipFill>
          <a:blip r:embed="rId1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63" name="Text Box 10"/>
          <p:cNvSpPr/>
          <p:nvPr/>
        </p:nvSpPr>
        <p:spPr>
          <a:xfrm>
            <a:off x="990720" y="10666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Good N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-76320" y="1143000"/>
            <a:ext cx="1067040" cy="13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6"/>
          <p:cNvSpPr/>
          <p:nvPr/>
        </p:nvSpPr>
        <p:spPr>
          <a:xfrm>
            <a:off x="1295280" y="1600200"/>
            <a:ext cx="70106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Office of the Fairness Commissioner report 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The professions with the highest proportion of internationally trained members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armacy 3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Audiology and Speech Language Pathology  3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Chiropractic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 Technology  2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Physicians and Surgeons  2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Dentals Surgeons  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 </a:t>
            </a:r>
            <a:r>
              <a:rPr b="0" lang="en-CA" sz="1400" spc="-1" strike="noStrike">
                <a:solidFill>
                  <a:srgbClr val="666666"/>
                </a:solidFill>
                <a:latin typeface="Arial"/>
              </a:rPr>
              <a:t>Engineering  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8"/>
          <p:cNvSpPr/>
          <p:nvPr/>
        </p:nvSpPr>
        <p:spPr>
          <a:xfrm>
            <a:off x="990720" y="10666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3122f"/>
                </a:solidFill>
                <a:latin typeface="Arial"/>
              </a:rPr>
              <a:t>Contact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9"/>
          <p:cNvSpPr/>
          <p:nvPr/>
        </p:nvSpPr>
        <p:spPr>
          <a:xfrm>
            <a:off x="990720" y="2286000"/>
            <a:ext cx="6019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Access Centre for Regulated Emplo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171 Queens Avenue, Suite 3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London, ON  N6A 5J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info@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www.accesscentre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Tel: 519.858.23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</a:rPr>
              <a:t>Fax: 519.858.54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1" descr="171 Queens Avenue"/>
          <p:cNvPicPr/>
          <p:nvPr/>
        </p:nvPicPr>
        <p:blipFill>
          <a:blip r:embed="rId1"/>
          <a:stretch/>
        </p:blipFill>
        <p:spPr>
          <a:xfrm>
            <a:off x="5715000" y="3962520"/>
            <a:ext cx="1971720" cy="1809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69" name="Picture 12" descr="AC_ENG_3Colour"/>
          <p:cNvPicPr/>
          <p:nvPr/>
        </p:nvPicPr>
        <p:blipFill>
          <a:blip r:embed="rId2"/>
          <a:stretch/>
        </p:blipFill>
        <p:spPr>
          <a:xfrm>
            <a:off x="228600" y="152280"/>
            <a:ext cx="1523880" cy="577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sse Morrice</dc:creator>
  <dc:description/>
  <dc:language>en-US</dc:language>
  <cp:lastModifiedBy>aholmes</cp:lastModifiedBy>
  <dcterms:modified xsi:type="dcterms:W3CDTF">2011-09-06T15:46:43Z</dcterms:modified>
  <cp:revision>2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